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0C1C-1A87-4F6E-BF94-F6BB65635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F828-CA50-4EF6-8939-FC3268C8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977-BE61-4E1A-87B3-0F680E21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A78-A2AF-453E-89CB-43F4EF7E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689-DC61-4D47-8C34-D35D4D17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F14-A58E-4AA3-A114-FE37656F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032-AB21-4E1D-A715-0F706B9C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8E2-9D73-4A15-9B76-FB83DBE9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258-A2B8-4B7A-935E-96C967EE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40F-9C5B-4C5F-A99F-F794F88F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5F1-9DA7-4C36-B481-38557A19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5DE-E6A8-40F5-98C4-E9BCEC0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3BE-623D-48CF-BDE7-EE3F8CE6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812-AC75-44C5-903B-774B6044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4D81-CE38-4890-B0CD-9246D42E3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581280"/>
            <a:ext cx="17524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5" descr="Photo on 2011-10-24 at 13.44.jpg"/>
          <p:cNvPicPr/>
          <p:nvPr/>
        </p:nvPicPr>
        <p:blipFill>
          <a:blip r:embed="rId2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8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0" descr="Photo on 2011-10-21 at 13.39 #2.jpg"/>
          <p:cNvPicPr/>
          <p:nvPr/>
        </p:nvPicPr>
        <p:blipFill>
          <a:blip r:embed="rId4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4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819520" y="320040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8" descr="Photo on 2011-10-21 at 13.46.jpg"/>
          <p:cNvPicPr/>
          <p:nvPr/>
        </p:nvPicPr>
        <p:blipFill>
          <a:blip r:embed="rId6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9" descr="Photo on 2011-10-21 at 13.53 #2.jpg"/>
          <p:cNvPicPr/>
          <p:nvPr/>
        </p:nvPicPr>
        <p:blipFill>
          <a:blip r:embed="rId7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6"/>
          <p:cNvSpPr/>
          <p:nvPr/>
        </p:nvSpPr>
        <p:spPr>
          <a:xfrm>
            <a:off x="1981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photo-1.jpeg"/>
          <p:cNvPicPr/>
          <p:nvPr/>
        </p:nvPicPr>
        <p:blipFill>
          <a:blip r:embed="rId10"/>
          <a:stretch/>
        </p:blipFill>
        <p:spPr>
          <a:xfrm>
            <a:off x="685800" y="457200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photo.jpeg"/>
          <p:cNvPicPr/>
          <p:nvPr/>
        </p:nvPicPr>
        <p:blipFill>
          <a:blip r:embed="rId11"/>
          <a:stretch/>
        </p:blipFill>
        <p:spPr>
          <a:xfrm>
            <a:off x="76320" y="4343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8:56Z</dcterms:modified>
  <cp:revision>105</cp:revision>
  <dc:subject/>
  <dc:title>Profile</dc:title>
</cp:coreProperties>
</file>